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B34-4C69-4EAF-B6B8-78B5B029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35B-75A3-48F7-B085-C05AE37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8E6-4F17-4BC9-B2D7-7CDFBD54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C55-5F1B-4C8B-BE74-D2122E0A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36ADE-9895-4A88-825A-900C5702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EF869-0F6E-4BB3-BDE7-4AF86993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66429-B1AF-4EB8-9F9F-4E76746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5E6F0-2C5B-4F05-9765-8A1A583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C9D6D-9FBE-4C93-A54A-9AD3194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70211-1817-4C81-A1E5-2030B4A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D1893-8A0E-4184-AB80-F36F278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459-21EC-457E-A8AF-308745D1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58F5-4A8B-43EB-8871-EACD8F81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4587B-4597-464E-9DEB-E97A36C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B2A99-798C-4532-8EC2-EA36270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C0777-DA2B-47CB-9343-87DF1BF7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FD77A-A41B-49D2-BFF4-4E05BB0E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9B8-F6CC-4726-A09D-57D17251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91B-2D05-4897-B5CC-28E340C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B23-0D93-4804-A5E6-960B43A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4DD-B820-4297-B10E-1F75000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000-C910-4C2B-BAA0-1C55DEC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27A-0BEB-43F3-899D-27FFF247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B8A-C523-4115-8B38-B6A95C7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4500-6BD9-4CAF-A95B-B762D33EC27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0EF1-4EF3-438C-8B77-F04AD6613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D189-54B1-4045-B7A6-5BBB37A22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449-57CB-47FF-8741-7196E262F3F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lingual Programs, (Dual-Language &amp; Immersion), and Learning Mod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Finding the most compatible matches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4F93A-F77E-4545-A743-5B69C2AA58E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1DF155B5-461D-4144-939A-D2F58FC803FE}" type="datetime1">
              <a:rPr lang="en-US"/>
              <a:t>07/30/26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- Stat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ing a bilingual program to the compatible learning styles of te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graders in P.S. X in Queens, NY,  over a grading period, will measurably increase language proficiency in Reading &amp; Wri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171-2A72-4168-96FE-110715F186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FD453-3500-4E84-877B-0D9A865327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s, M., Jones, K., M. (2006). Unmasking the Myths of Structured Englis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mersion: Why We Still Need Bilingual Educators, Native Language Instruction, and Incorporation of Home Culture. Radical Teacher, 75, 16-2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rmstrong, Th. ((2000). Multiple Intelligences.  Retrieved from: www.ThomasArmstrong.co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ristian, D. (1996). Two-Way Immersion Education: Students Learning Through Two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nguages.  The Modern Language Journal, 80, 66-7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di-Tabassum, S. (1999).  Assessing Students’ Attitudes &amp; Achievements in 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cultural &amp; Multilingual Science Classroom.  Multicultural Education, no7 (2), 15-2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ng-Soon, S, Yeok-Hwa, N.  (1998). Effective English as a Second Languag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ruction With Interactive Multimedia: The MCALL Project.  Journal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ucational Multimedia and Hypermedia, no7(1), 71-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nguistic Diversity and Classroom Management”, Theory into Practice no4, 200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nbardi, J. (2008). Beyond Learning Styles: Brain-Based Research and Englis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nguage Learners. The Clearing House, no81(5), 219-2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ian, M., Pearson, V. (2005).  Students with Visual Impairments in a Dual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nguage Program: A Case Study. Journal of Visual Impairment &amp; Blindness, no99 (11), 715-2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rter, Pedalino, R. (1998). Twisted Tongues: The Failure of Bilingual Education. REA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itute. Retrieved from http://www.gwu.edu/~ccps/pop_billing.htm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t IV: Glossary. Retrieved from http://www2.ed.gov/about/offices/list/ocr/ell/edlite-glossary.htm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AAD-DEDB-45E0-873D-04C73406A4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01362-8465-47D8-B35E-851DE4A5B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the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of Related 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rsion Experiment Sum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C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B7F-37FA-441A-88C3-4B7F37D236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80486-21DC-4FF1-AF5E-80B2AC893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atement of the Problem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he extent to which the bilingual programs- Dual-Language and Immersion- can succeed across the board is dependant- pedagogically, upon how well they can be assimilated by the learner.  Assimilation occurs via a student’s learning style. How can D-L and Immersion be modified so that they appeal to all learner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his inquiry is significant, since student success- and conversely, failure- is dependant upon linking the correct style to compatible learners.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703-008B-4BF6-AB65-5BA2B975B3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3AC60-49F3-486A-8F8A-CADBD55A2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Literature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ual-Langu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Pro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Hadi-Tabassum, 1999; Christian, D., 1996; http://www2.ed.gov/about/offices/list/ocr/ell/edlite-gloss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Con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Arnstrong, Th., 2000; Jones, M., 2006; Porter, R.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uctured English Imm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Pro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Linguistic Diversity and Classroom Management”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Con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Klein, A., 2008; Mays, L., 2008; Porter, R. 1998; Keng-Soon, S. &amp; Yeok-Hwa, N., 1998; Milian, M. &amp; Pearson, V., 2005; Lombardi, J., 2008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A74-4C7D-4AB8-8876-1EB9096A92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7E45-4E67-474F-B244-2EBFB889D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#1 Dual-Langu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85800"/>
            <a:ext cx="853452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ingual Education Act, (Elementary and Secondary Education Act of 1968): every school must have a bilingual education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m Cummins, University of Toronto:  “Developmental interdependence Hypothesis”; “Threshold Hypothesi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Rationale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cond language acquisition is dependant on mastery of native language skills: First set of skills in L1 easily transferred to L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ative English speakers are not harmed academ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struction is primarily through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4-6 years of bilingual i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operative learning st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ualified teaching perso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rget language (L2) used 50%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guistic and academic proficiency develops in two languages simultaneou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LLs and native English-speakers perform at or above grade level in both            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igh self-esteem &amp; positive attitude for other cul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928-06F5-4AEE-A8D9-8221E544AA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63F65-A943-433F-81FC-A33AC22443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#1 Dual-Languag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C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yies “time-on-task” princi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he more time spent on a subject, the more that subject will be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ry to research demonstrating that language is best acquired early on in lif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f student learning in L1 most of day for several years, illogical to conclude that will be fluent in L2 when they are ol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886-1C31-4747-BD65-4C758939C4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B3F4D-3FF5-4A2A-8394-F14DAAE60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#2 Structured English Immer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6600"/>
                </a:solidFill>
                <a:uFillTx/>
                <a:latin typeface="Tahoma"/>
              </a:rPr>
              <a:t>P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LLs= Eng. Lang. Learn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ll instruction done in Englis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ainstream classro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eachers specially trained in bilingual education or ESL train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Visual aids highly recommend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roup/paired work highly recommend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alking among classmates should not necessarily be seen as thre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ulti-media can accomplish what teacher cannot, (address all learning styl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earning style: the natural, habitual, preferred way(s) for an individual to lear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inguistic &amp; Logical intellige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Linguistic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word smart"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Logical-mathematic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number/reasoning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pati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picture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Bodily-Kinesthetic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body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usic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music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nterperson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people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ntraperson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self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aturalist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nature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rning styles heavily influenced by cultu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ral dominant learning styles present in a classroom, likel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3E2-BDBF-4DC8-993E-8AF64DC036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0AC27-565E-406F-A869-801D8AF494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#2 Structured English Immer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Tahoma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s mostly taught in linguistic manner (Pro &amp; C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anguage that is highly methodic is 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ulturally acceptable element missing from most instructional methods: kits, folders, books, tech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 children who possess other intelligences label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arning disab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D (Attention Deficit Disor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derachie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B98-0D9C-45BB-AD67-D41A075267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F46C8-D677-4782-BF0B-73B1B9843D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Immersion Experi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 conducted workshop for collea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d herself, gave verbal instru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was accomplished when colleagues translated for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er finally spoke in Engl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dees were compliant, confused, angry, unattac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 for teachers: (see previous slides under ‘pros’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B4A-77D8-492C-B151-671992DF4E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E0905-1F53-4BD6-BEA4-6BB86B664B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0:33:08Z</dcterms:created>
  <dc:creator>sgarcia</dc:creator>
  <dc:description/>
  <dc:language>en-US</dc:language>
  <cp:lastModifiedBy>sgarcia</cp:lastModifiedBy>
  <dcterms:modified xsi:type="dcterms:W3CDTF">2010-03-26T02:43:37Z</dcterms:modified>
  <cp:revision>5</cp:revision>
  <dc:subject/>
  <dc:title>Bilingual Programs, (Dual-Language &amp; Immersion), and Learning Modalities</dc:title>
</cp:coreProperties>
</file>